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8C48-CCF7-4F5C-AFF7-9CA93FD16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55FE-11F7-465E-8E9F-606621893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2773-4B40-4C58-9E83-C63D35128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A798-01CD-4C91-96DB-B62873DDC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21BC-E928-48AB-8754-DB4530832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E5BD-6070-4E9A-8786-D55C0601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24D2-936A-40A8-A2C1-4C6CC0F43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7E65-D82A-4F3E-92C1-1D66F2B76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598F-6A0E-4A34-B02E-A083FB7D0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CE2-572D-489A-965F-0CA48A9C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4CA-1626-4C47-AF30-EFF852C7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768-0909-40AA-B4F5-6BA36684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D87-265E-438A-BEB2-8BDDF934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669-B1F2-4662-856F-7C807603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328-1026-47F3-B93F-896055D4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B26-6776-4198-AED3-AEC84D2A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572-5CB2-49BF-A7CB-8DC23269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AF1-0A6D-4B84-93C7-6EAB63CC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58A-7029-45EE-946D-4256647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667-9056-447F-9D27-27DD3EB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61E-E6AC-485F-BE51-502916BC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412A-5940-4E7B-98F1-861846F78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Straight Arrow Connector 6"/>
          <p:cNvCxnSpPr/>
          <p:nvPr/>
        </p:nvCxnSpPr>
        <p:spPr>
          <a:xfrm flipH="1" flipV="1">
            <a:off x="4952160" y="6400080"/>
            <a:ext cx="839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5791320" y="6488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8" name="Picture 6" descr="Picture 2.png"/>
          <p:cNvPicPr/>
          <p:nvPr/>
        </p:nvPicPr>
        <p:blipFill>
          <a:blip r:embed="rId1"/>
          <a:stretch/>
        </p:blipFill>
        <p:spPr>
          <a:xfrm>
            <a:off x="5791320" y="762120"/>
            <a:ext cx="3352680" cy="25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228600" y="1219320"/>
          <a:ext cx="5105520" cy="148572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on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a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0" y="3733920"/>
          <a:ext cx="9144000" cy="2931840"/>
        </p:xfrm>
        <a:graphic>
          <a:graphicData uri="http://schemas.openxmlformats.org/drawingml/2006/table">
            <a:tbl>
              <a:tblPr/>
              <a:tblGrid>
                <a:gridCol w="1219320"/>
                <a:gridCol w="2971800"/>
                <a:gridCol w="1828800"/>
                <a:gridCol w="3124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Flow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itational potenti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gravitation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potenti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rm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p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5:46:14Z</dcterms:created>
  <dc:creator>Julie Libarkin</dc:creator>
  <dc:description/>
  <dc:language>en-US</dc:language>
  <cp:lastModifiedBy>Nicole LaDue</cp:lastModifiedBy>
  <dcterms:modified xsi:type="dcterms:W3CDTF">2011-01-12T20:45:49Z</dcterms:modified>
  <cp:revision>303</cp:revision>
  <dc:subject/>
  <dc:title>PowerPoint Presentation</dc:title>
</cp:coreProperties>
</file>